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5FC-13DC-4170-811A-A50CC762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4A7-04ED-4BD7-987F-04844A01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8E3-E33D-40E7-B0DB-1D2FB495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D2E-E412-4D65-97C6-25836AB7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71B-05B5-43D2-999D-EC5CF65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03D-4B17-40BA-B018-230BD624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8FD-C45E-4A0A-A413-E041CF20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28C-8F08-4381-9B37-0B2AD365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25D-CA96-4CC5-A1F0-FCBCF10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3F4-0F7A-49AE-A318-8C35C17F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F55-5FA7-412B-B029-908986C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792-60D5-4A76-BFA2-3A6F18B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3375-E443-4DC4-A5F6-4075922F3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4932360" y="378936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Ш №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ина А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>
            <a:hlinkClick r:id="" action="ppaction://hlinkshowjump?jump=nextslide"/>
          </p:cNvPr>
          <p:cNvSpPr/>
          <p:nvPr/>
        </p:nvSpPr>
        <p:spPr>
          <a:xfrm>
            <a:off x="324000" y="5697360"/>
            <a:ext cx="3311280" cy="433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>
            <a:hlinkClick r:id="rId1" action="ppaction://hlinksldjump"/>
          </p:cNvPr>
          <p:cNvSpPr/>
          <p:nvPr/>
        </p:nvSpPr>
        <p:spPr>
          <a:xfrm>
            <a:off x="8317080" y="476280"/>
            <a:ext cx="450720" cy="438120"/>
          </a:xfrm>
          <a:custGeom>
            <a:avLst/>
            <a:gdLst>
              <a:gd name="textAreaLeft" fmla="*/ 28080 w 450720"/>
              <a:gd name="textAreaRight" fmla="*/ 422640 w 45072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22221" h="21600">
                <a:moveTo>
                  <a:pt x="0" y="0"/>
                </a:moveTo>
                <a:lnTo>
                  <a:pt x="22221" y="0"/>
                </a:lnTo>
                <a:lnTo>
                  <a:pt x="22221" y="21600"/>
                </a:lnTo>
                <a:lnTo>
                  <a:pt x="0" y="21600"/>
                </a:lnTo>
                <a:close/>
              </a:path>
              <a:path fill="lightenLess" w="22221" h="21600">
                <a:moveTo>
                  <a:pt x="0" y="0"/>
                </a:moveTo>
                <a:lnTo>
                  <a:pt x="22221" y="0"/>
                </a:lnTo>
                <a:lnTo>
                  <a:pt x="20821" y="1400"/>
                </a:lnTo>
                <a:lnTo>
                  <a:pt x="1400" y="1400"/>
                </a:lnTo>
                <a:close/>
              </a:path>
              <a:path fill="darken" w="22221" h="21600">
                <a:moveTo>
                  <a:pt x="22221" y="0"/>
                </a:moveTo>
                <a:lnTo>
                  <a:pt x="22221" y="21600"/>
                </a:lnTo>
                <a:lnTo>
                  <a:pt x="20821" y="20200"/>
                </a:lnTo>
                <a:lnTo>
                  <a:pt x="20821" y="1400"/>
                </a:lnTo>
                <a:close/>
              </a:path>
              <a:path fill="darkenLess" w="22221" h="21600">
                <a:moveTo>
                  <a:pt x="22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21" y="20200"/>
                </a:lnTo>
                <a:close/>
              </a:path>
              <a:path fill="lighten" w="22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23"/>
          <p:cNvSpPr txBox="1"/>
          <p:nvPr/>
        </p:nvSpPr>
        <p:spPr>
          <a:xfrm>
            <a:off x="1332000" y="441360"/>
            <a:ext cx="6648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нажер-раскраска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Устройства компьютера»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25" descr="http://mabook.org/carambis/16.jpg"/>
          <p:cNvPicPr/>
          <p:nvPr/>
        </p:nvPicPr>
        <p:blipFill>
          <a:blip r:embed="rId2"/>
          <a:stretch/>
        </p:blipFill>
        <p:spPr>
          <a:xfrm>
            <a:off x="358920" y="1881360"/>
            <a:ext cx="446544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3564000" y="1268280"/>
            <a:ext cx="1914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кане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9" descr="6"/>
          <p:cNvPicPr/>
          <p:nvPr/>
        </p:nvPicPr>
        <p:blipFill>
          <a:blip r:embed="rId4"/>
          <a:stretch/>
        </p:blipFill>
        <p:spPr>
          <a:xfrm>
            <a:off x="611280" y="1952640"/>
            <a:ext cx="3914640" cy="3600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879640" y="1089000"/>
            <a:ext cx="319104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б-камера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9" descr="7"/>
          <p:cNvPicPr/>
          <p:nvPr/>
        </p:nvPicPr>
        <p:blipFill>
          <a:blip r:embed="rId4"/>
          <a:stretch/>
        </p:blipFill>
        <p:spPr>
          <a:xfrm>
            <a:off x="611280" y="1989000"/>
            <a:ext cx="3914640" cy="3571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384720" y="1268280"/>
            <a:ext cx="2295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онки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9" descr="8"/>
          <p:cNvPicPr/>
          <p:nvPr/>
        </p:nvPicPr>
        <p:blipFill>
          <a:blip r:embed="rId4"/>
          <a:stretch/>
        </p:blipFill>
        <p:spPr>
          <a:xfrm>
            <a:off x="647640" y="1989000"/>
            <a:ext cx="3895920" cy="3600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nextslide"/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3384720" y="1125360"/>
            <a:ext cx="2295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лешка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Picture 8" descr="9"/>
          <p:cNvPicPr/>
          <p:nvPr/>
        </p:nvPicPr>
        <p:blipFill>
          <a:blip r:embed="rId4"/>
          <a:stretch/>
        </p:blipFill>
        <p:spPr>
          <a:xfrm>
            <a:off x="755640" y="1952640"/>
            <a:ext cx="3914640" cy="3600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3240000" y="1233360"/>
            <a:ext cx="2781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ушники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Picture 9" descr="10"/>
          <p:cNvPicPr/>
          <p:nvPr/>
        </p:nvPicPr>
        <p:blipFill>
          <a:blip r:embed="rId4"/>
          <a:stretch/>
        </p:blipFill>
        <p:spPr>
          <a:xfrm>
            <a:off x="611280" y="1952640"/>
            <a:ext cx="391464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2440080" y="441360"/>
            <a:ext cx="418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рошие знания!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AutoShape 4">
            <a:hlinkClick r:id="" action="ppaction://hlinkshowjump?jump=endshow"/>
          </p:cNvPr>
          <p:cNvSpPr/>
          <p:nvPr/>
        </p:nvSpPr>
        <p:spPr>
          <a:xfrm>
            <a:off x="431640" y="5985000"/>
            <a:ext cx="1727280" cy="468360"/>
          </a:xfrm>
          <a:custGeom>
            <a:avLst/>
            <a:gdLst>
              <a:gd name="textAreaLeft" fmla="*/ 30240 w 1727280"/>
              <a:gd name="textAreaRight" fmla="*/ 1697040 w 17272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79615" h="21600">
                <a:moveTo>
                  <a:pt x="0" y="0"/>
                </a:moveTo>
                <a:lnTo>
                  <a:pt x="79615" y="0"/>
                </a:lnTo>
                <a:lnTo>
                  <a:pt x="79615" y="21600"/>
                </a:lnTo>
                <a:lnTo>
                  <a:pt x="0" y="21600"/>
                </a:lnTo>
                <a:close/>
              </a:path>
              <a:path fill="lightenLess" w="79615" h="21600">
                <a:moveTo>
                  <a:pt x="0" y="0"/>
                </a:moveTo>
                <a:lnTo>
                  <a:pt x="79615" y="0"/>
                </a:lnTo>
                <a:lnTo>
                  <a:pt x="78215" y="1400"/>
                </a:lnTo>
                <a:lnTo>
                  <a:pt x="1400" y="1400"/>
                </a:lnTo>
                <a:close/>
              </a:path>
              <a:path fill="darken" w="79615" h="21600">
                <a:moveTo>
                  <a:pt x="79615" y="0"/>
                </a:moveTo>
                <a:lnTo>
                  <a:pt x="79615" y="21600"/>
                </a:lnTo>
                <a:lnTo>
                  <a:pt x="78215" y="20200"/>
                </a:lnTo>
                <a:lnTo>
                  <a:pt x="78215" y="1400"/>
                </a:lnTo>
                <a:close/>
              </a:path>
              <a:path fill="darkenLess" w="79615" h="21600">
                <a:moveTo>
                  <a:pt x="79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215" y="20200"/>
                </a:lnTo>
                <a:close/>
              </a:path>
              <a:path fill="lighten" w="79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10"/>
          <p:cNvPicPr/>
          <p:nvPr/>
        </p:nvPicPr>
        <p:blipFill>
          <a:blip r:embed="rId1"/>
          <a:stretch/>
        </p:blipFill>
        <p:spPr>
          <a:xfrm>
            <a:off x="2614680" y="1633680"/>
            <a:ext cx="3914640" cy="3590640"/>
          </a:xfrm>
          <a:prstGeom prst="rect">
            <a:avLst/>
          </a:prstGeom>
          <a:ln w="114480">
            <a:solidFill>
              <a:srgbClr val="008000"/>
            </a:solidFill>
            <a:miter/>
          </a:ln>
          <a:effectLst>
            <a:outerShdw dist="107932" dir="18900000" blurRad="0" rotWithShape="0">
              <a:srgbClr val="66ff66">
                <a:alpha val="5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684440" y="441360"/>
            <a:ext cx="569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информации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9640" y="1376280"/>
            <a:ext cx="817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345-games.ru/zajchata/ - раскраска Зайч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abook.org/carambis/16.jpg -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248000" y="5661000"/>
            <a:ext cx="900360" cy="792360"/>
          </a:xfrm>
          <a:custGeom>
            <a:avLst/>
            <a:gdLst>
              <a:gd name="textAreaLeft" fmla="*/ 51120 w 900360"/>
              <a:gd name="textAreaRight" fmla="*/ 849240 w 900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4543" h="21600">
                <a:moveTo>
                  <a:pt x="0" y="0"/>
                </a:moveTo>
                <a:lnTo>
                  <a:pt x="24543" y="0"/>
                </a:lnTo>
                <a:lnTo>
                  <a:pt x="24543" y="21600"/>
                </a:lnTo>
                <a:lnTo>
                  <a:pt x="0" y="21600"/>
                </a:lnTo>
                <a:close/>
              </a:path>
              <a:path fill="lightenLess" w="24543" h="21600">
                <a:moveTo>
                  <a:pt x="0" y="0"/>
                </a:moveTo>
                <a:lnTo>
                  <a:pt x="24543" y="0"/>
                </a:lnTo>
                <a:lnTo>
                  <a:pt x="23143" y="1400"/>
                </a:lnTo>
                <a:lnTo>
                  <a:pt x="1400" y="1400"/>
                </a:lnTo>
                <a:close/>
              </a:path>
              <a:path fill="darken" w="24543" h="21600">
                <a:moveTo>
                  <a:pt x="24543" y="0"/>
                </a:moveTo>
                <a:lnTo>
                  <a:pt x="24543" y="21600"/>
                </a:lnTo>
                <a:lnTo>
                  <a:pt x="23143" y="20200"/>
                </a:lnTo>
                <a:lnTo>
                  <a:pt x="23143" y="1400"/>
                </a:lnTo>
                <a:close/>
              </a:path>
              <a:path fill="darkenLess" w="24543" h="21600">
                <a:moveTo>
                  <a:pt x="24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3" y="20200"/>
                </a:lnTo>
                <a:close/>
              </a:path>
              <a:path fill="lighten" w="24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3" h="21600">
                <a:moveTo>
                  <a:pt x="5265" y="7493"/>
                </a:moveTo>
                <a:lnTo>
                  <a:pt x="8773" y="7493"/>
                </a:lnTo>
                <a:lnTo>
                  <a:pt x="8773" y="12828"/>
                </a:lnTo>
                <a:cubicBezTo>
                  <a:pt x="8773" y="13751"/>
                  <a:pt x="9573" y="14482"/>
                  <a:pt x="10609" y="14482"/>
                </a:cubicBezTo>
                <a:lnTo>
                  <a:pt x="12271" y="14482"/>
                </a:lnTo>
                <a:cubicBezTo>
                  <a:pt x="13307" y="14482"/>
                  <a:pt x="14108" y="13751"/>
                  <a:pt x="14108" y="12828"/>
                </a:cubicBezTo>
                <a:lnTo>
                  <a:pt x="14108" y="7493"/>
                </a:lnTo>
                <a:lnTo>
                  <a:pt x="12271" y="7493"/>
                </a:lnTo>
                <a:lnTo>
                  <a:pt x="15779" y="3985"/>
                </a:lnTo>
                <a:lnTo>
                  <a:pt x="19452" y="7493"/>
                </a:lnTo>
                <a:lnTo>
                  <a:pt x="17615" y="7493"/>
                </a:lnTo>
                <a:lnTo>
                  <a:pt x="17615" y="12828"/>
                </a:lnTo>
                <a:cubicBezTo>
                  <a:pt x="17615" y="15596"/>
                  <a:pt x="15039" y="18155"/>
                  <a:pt x="12271" y="18155"/>
                </a:cubicBezTo>
                <a:lnTo>
                  <a:pt x="10609" y="18155"/>
                </a:lnTo>
                <a:cubicBezTo>
                  <a:pt x="7841" y="18155"/>
                  <a:pt x="5265" y="15596"/>
                  <a:pt x="5265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900000" y="549360"/>
            <a:ext cx="7524720" cy="39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– это инструмент дл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информ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служит для получения, хра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и и передач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устройства компьютера дел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стройства ввода, вы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>
            <a:hlinkClick r:id="" action="ppaction://hlinkshowjump?jump=nextslide"/>
          </p:cNvPr>
          <p:cNvSpPr/>
          <p:nvPr/>
        </p:nvSpPr>
        <p:spPr>
          <a:xfrm>
            <a:off x="3203640" y="4905360"/>
            <a:ext cx="3311640" cy="433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900000" y="549360"/>
            <a:ext cx="7524720" cy="359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чайте на вопрос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йте вер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адание выполнено невер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звучат колокольчики,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чат аплодисмент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ашивается картинк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ходим к следующ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>
            <a:hlinkClick r:id="" action="ppaction://hlinkshowjump?jump=nextslide"/>
          </p:cNvPr>
          <p:cNvSpPr/>
          <p:nvPr/>
        </p:nvSpPr>
        <p:spPr>
          <a:xfrm>
            <a:off x="2376360" y="4653000"/>
            <a:ext cx="4789440" cy="140508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Ст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3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7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18"/>
          <p:cNvSpPr txBox="1"/>
          <p:nvPr/>
        </p:nvSpPr>
        <p:spPr>
          <a:xfrm>
            <a:off x="2771640" y="1233360"/>
            <a:ext cx="3667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виатура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AutoShape 21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3" descr="0"/>
          <p:cNvPicPr/>
          <p:nvPr/>
        </p:nvPicPr>
        <p:blipFill>
          <a:blip r:embed="rId4"/>
          <a:srcRect l="0" t="0" r="2277" b="0"/>
          <a:stretch/>
        </p:blipFill>
        <p:spPr>
          <a:xfrm>
            <a:off x="719280" y="1989000"/>
            <a:ext cx="381636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AutoShape 5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3492360" y="1197000"/>
            <a:ext cx="2295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CD-диск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9" descr="1"/>
          <p:cNvPicPr/>
          <p:nvPr/>
        </p:nvPicPr>
        <p:blipFill>
          <a:blip r:embed="rId4"/>
          <a:srcRect l="0" t="0" r="1346" b="0"/>
          <a:stretch/>
        </p:blipFill>
        <p:spPr>
          <a:xfrm>
            <a:off x="684360" y="1989000"/>
            <a:ext cx="3852720" cy="3600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3492360" y="1233360"/>
            <a:ext cx="2524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нте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9" descr="2"/>
          <p:cNvPicPr/>
          <p:nvPr/>
        </p:nvPicPr>
        <p:blipFill>
          <a:blip r:embed="rId4"/>
          <a:srcRect l="0" t="0" r="452" b="0"/>
          <a:stretch/>
        </p:blipFill>
        <p:spPr>
          <a:xfrm>
            <a:off x="611280" y="1989000"/>
            <a:ext cx="3887640" cy="3619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>
            <a:hlinkClick r:id="" action="ppaction://hlinkshowjump?jump=nextslide"/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3311640" y="1089000"/>
            <a:ext cx="270504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крофон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3" name="Picture 8" descr="3"/>
          <p:cNvPicPr/>
          <p:nvPr/>
        </p:nvPicPr>
        <p:blipFill>
          <a:blip r:embed="rId4"/>
          <a:stretch/>
        </p:blipFill>
        <p:spPr>
          <a:xfrm>
            <a:off x="611280" y="1952640"/>
            <a:ext cx="390528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AutoShape 4">
            <a:hlinkClick r:id="" action="ppaction://hlinkshowjump?jump=nextslide"/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3311640" y="1233360"/>
            <a:ext cx="270504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нито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8" descr="4"/>
          <p:cNvPicPr/>
          <p:nvPr/>
        </p:nvPicPr>
        <p:blipFill>
          <a:blip r:embed="rId4"/>
          <a:stretch/>
        </p:blipFill>
        <p:spPr>
          <a:xfrm>
            <a:off x="647640" y="1989000"/>
            <a:ext cx="3924360" cy="3610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1"/>
          </p:cNvPr>
          <p:cNvSpPr/>
          <p:nvPr/>
        </p:nvSpPr>
        <p:spPr>
          <a:xfrm>
            <a:off x="6443640" y="238428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1008000" y="441360"/>
            <a:ext cx="72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ите вид устройства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AutoShape 4">
            <a:hlinkClick r:id="rId2"/>
          </p:cNvPr>
          <p:cNvSpPr/>
          <p:nvPr/>
        </p:nvSpPr>
        <p:spPr>
          <a:xfrm>
            <a:off x="5616720" y="3500280"/>
            <a:ext cx="230328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  <a:hlinkClick r:id="rId3"/>
          </p:cNvPr>
          <p:cNvSpPr/>
          <p:nvPr/>
        </p:nvSpPr>
        <p:spPr>
          <a:xfrm>
            <a:off x="4967280" y="4689360"/>
            <a:ext cx="2303640" cy="576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5400000"/>
          </a:gra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3311640" y="1233360"/>
            <a:ext cx="3024000" cy="6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нчестер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8" descr="5"/>
          <p:cNvPicPr/>
          <p:nvPr/>
        </p:nvPicPr>
        <p:blipFill>
          <a:blip r:embed="rId4"/>
          <a:stretch/>
        </p:blipFill>
        <p:spPr>
          <a:xfrm>
            <a:off x="647640" y="1989000"/>
            <a:ext cx="3876840" cy="359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04:16:04Z</dcterms:created>
  <dc:creator>Админ</dc:creator>
  <dc:description/>
  <dc:language>en-US</dc:language>
  <cp:lastModifiedBy>XP GAME 2009</cp:lastModifiedBy>
  <dcterms:modified xsi:type="dcterms:W3CDTF">2015-12-29T18:23:37Z</dcterms:modified>
  <cp:revision>20</cp:revision>
  <dc:subject/>
  <dc:title>Слайд 1</dc:title>
</cp:coreProperties>
</file>