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600-8AA1-402F-B25C-021CFAFA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539-F438-43FB-84AF-449ED82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4BE-E69F-472D-B4C9-975DD6EF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158-C31E-4179-919A-E2A656C1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F1B-88DF-4CD4-BC5C-10E4B5F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A37-C829-4EE9-A8D9-006C63F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075-BF5B-4944-B091-01EA405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1CB-BED1-4B77-A7E0-8CC9D0F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142-33F3-4AA7-B742-CA148FF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C91-35B0-4124-A712-0A2121E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47F-BA10-40DC-84C0-6221F64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123-8B51-4C2C-AF44-D3C5CC17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7B5-1119-44B9-802B-599512BC8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4932360" y="378936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Ш №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ина А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324000" y="5697360"/>
            <a:ext cx="3311280" cy="433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>
            <a:hlinkClick r:id="rId1" action="ppaction://hlinksldjump"/>
          </p:cNvPr>
          <p:cNvSpPr/>
          <p:nvPr/>
        </p:nvSpPr>
        <p:spPr>
          <a:xfrm>
            <a:off x="8317080" y="476280"/>
            <a:ext cx="450720" cy="438120"/>
          </a:xfrm>
          <a:custGeom>
            <a:avLst/>
            <a:gdLst>
              <a:gd name="textAreaLeft" fmla="*/ 28080 w 450720"/>
              <a:gd name="textAreaRight" fmla="*/ 422640 w 45072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22221" h="21600">
                <a:moveTo>
                  <a:pt x="0" y="0"/>
                </a:moveTo>
                <a:lnTo>
                  <a:pt x="22221" y="0"/>
                </a:lnTo>
                <a:lnTo>
                  <a:pt x="22221" y="21600"/>
                </a:lnTo>
                <a:lnTo>
                  <a:pt x="0" y="21600"/>
                </a:lnTo>
                <a:close/>
              </a:path>
              <a:path fill="lightenLess" w="22221" h="21600">
                <a:moveTo>
                  <a:pt x="0" y="0"/>
                </a:moveTo>
                <a:lnTo>
                  <a:pt x="22221" y="0"/>
                </a:lnTo>
                <a:lnTo>
                  <a:pt x="20821" y="1400"/>
                </a:lnTo>
                <a:lnTo>
                  <a:pt x="1400" y="1400"/>
                </a:lnTo>
                <a:close/>
              </a:path>
              <a:path fill="darken" w="22221" h="21600">
                <a:moveTo>
                  <a:pt x="22221" y="0"/>
                </a:moveTo>
                <a:lnTo>
                  <a:pt x="22221" y="21600"/>
                </a:lnTo>
                <a:lnTo>
                  <a:pt x="20821" y="20200"/>
                </a:lnTo>
                <a:lnTo>
                  <a:pt x="20821" y="1400"/>
                </a:lnTo>
                <a:close/>
              </a:path>
              <a:path fill="darkenLess" w="22221" h="21600">
                <a:moveTo>
                  <a:pt x="22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21" y="20200"/>
                </a:lnTo>
                <a:close/>
              </a:path>
              <a:path fill="lighten" w="22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23"/>
          <p:cNvSpPr txBox="1"/>
          <p:nvPr/>
        </p:nvSpPr>
        <p:spPr>
          <a:xfrm>
            <a:off x="1332000" y="441360"/>
            <a:ext cx="6648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ажер-раскраск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Устройства компьютера»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25" descr="http://mabook.org/carambis/16.jpg"/>
          <p:cNvPicPr/>
          <p:nvPr/>
        </p:nvPicPr>
        <p:blipFill>
          <a:blip r:embed="rId2"/>
          <a:stretch/>
        </p:blipFill>
        <p:spPr>
          <a:xfrm>
            <a:off x="358920" y="1881360"/>
            <a:ext cx="446544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3564000" y="1268280"/>
            <a:ext cx="1914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н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9" descr="6"/>
          <p:cNvPicPr/>
          <p:nvPr/>
        </p:nvPicPr>
        <p:blipFill>
          <a:blip r:embed="rId4"/>
          <a:stretch/>
        </p:blipFill>
        <p:spPr>
          <a:xfrm>
            <a:off x="611280" y="1952640"/>
            <a:ext cx="3914640" cy="360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879640" y="1089000"/>
            <a:ext cx="31910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б-камер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9" descr="7"/>
          <p:cNvPicPr/>
          <p:nvPr/>
        </p:nvPicPr>
        <p:blipFill>
          <a:blip r:embed="rId4"/>
          <a:stretch/>
        </p:blipFill>
        <p:spPr>
          <a:xfrm>
            <a:off x="611280" y="1989000"/>
            <a:ext cx="3914640" cy="3571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384720" y="1268280"/>
            <a:ext cx="2295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он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9" descr="8"/>
          <p:cNvPicPr/>
          <p:nvPr/>
        </p:nvPicPr>
        <p:blipFill>
          <a:blip r:embed="rId4"/>
          <a:stretch/>
        </p:blipFill>
        <p:spPr>
          <a:xfrm>
            <a:off x="647640" y="1989000"/>
            <a:ext cx="3895920" cy="360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3384720" y="1125360"/>
            <a:ext cx="2295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лешк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8" descr="9"/>
          <p:cNvPicPr/>
          <p:nvPr/>
        </p:nvPicPr>
        <p:blipFill>
          <a:blip r:embed="rId4"/>
          <a:stretch/>
        </p:blipFill>
        <p:spPr>
          <a:xfrm>
            <a:off x="755640" y="1952640"/>
            <a:ext cx="3914640" cy="360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40000" y="1233360"/>
            <a:ext cx="2781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ушни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Picture 9" descr="10"/>
          <p:cNvPicPr/>
          <p:nvPr/>
        </p:nvPicPr>
        <p:blipFill>
          <a:blip r:embed="rId4"/>
          <a:stretch/>
        </p:blipFill>
        <p:spPr>
          <a:xfrm>
            <a:off x="611280" y="1952640"/>
            <a:ext cx="391464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440080" y="441360"/>
            <a:ext cx="418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ие знания!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4">
            <a:hlinkClick r:id="" action="ppaction://hlinkshowjump?jump=endshow"/>
          </p:cNvPr>
          <p:cNvSpPr/>
          <p:nvPr/>
        </p:nvSpPr>
        <p:spPr>
          <a:xfrm>
            <a:off x="431640" y="5985000"/>
            <a:ext cx="1727280" cy="468360"/>
          </a:xfrm>
          <a:custGeom>
            <a:avLst/>
            <a:gdLst>
              <a:gd name="textAreaLeft" fmla="*/ 30240 w 1727280"/>
              <a:gd name="textAreaRight" fmla="*/ 1697040 w 1727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79615" h="21600">
                <a:moveTo>
                  <a:pt x="0" y="0"/>
                </a:moveTo>
                <a:lnTo>
                  <a:pt x="79615" y="0"/>
                </a:lnTo>
                <a:lnTo>
                  <a:pt x="79615" y="21600"/>
                </a:lnTo>
                <a:lnTo>
                  <a:pt x="0" y="21600"/>
                </a:lnTo>
                <a:close/>
              </a:path>
              <a:path fill="lightenLess" w="79615" h="21600">
                <a:moveTo>
                  <a:pt x="0" y="0"/>
                </a:moveTo>
                <a:lnTo>
                  <a:pt x="79615" y="0"/>
                </a:lnTo>
                <a:lnTo>
                  <a:pt x="78215" y="1400"/>
                </a:lnTo>
                <a:lnTo>
                  <a:pt x="1400" y="1400"/>
                </a:lnTo>
                <a:close/>
              </a:path>
              <a:path fill="darken" w="79615" h="21600">
                <a:moveTo>
                  <a:pt x="79615" y="0"/>
                </a:moveTo>
                <a:lnTo>
                  <a:pt x="79615" y="21600"/>
                </a:lnTo>
                <a:lnTo>
                  <a:pt x="78215" y="20200"/>
                </a:lnTo>
                <a:lnTo>
                  <a:pt x="78215" y="1400"/>
                </a:lnTo>
                <a:close/>
              </a:path>
              <a:path fill="darkenLess" w="79615" h="21600">
                <a:moveTo>
                  <a:pt x="79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215" y="20200"/>
                </a:lnTo>
                <a:close/>
              </a:path>
              <a:path fill="lighten" w="79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10"/>
          <p:cNvPicPr/>
          <p:nvPr/>
        </p:nvPicPr>
        <p:blipFill>
          <a:blip r:embed="rId1"/>
          <a:stretch/>
        </p:blipFill>
        <p:spPr>
          <a:xfrm>
            <a:off x="2614680" y="1633680"/>
            <a:ext cx="3914640" cy="3590640"/>
          </a:xfrm>
          <a:prstGeom prst="rect">
            <a:avLst/>
          </a:prstGeom>
          <a:ln w="114480">
            <a:solidFill>
              <a:srgbClr val="008000"/>
            </a:solidFill>
            <a:miter/>
          </a:ln>
          <a:effectLst>
            <a:outerShdw dist="107932" dir="18900000" blurRad="0" rotWithShape="0">
              <a:srgbClr val="66ff66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684440" y="441360"/>
            <a:ext cx="56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376280"/>
            <a:ext cx="817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345-games.ru/zajchata/ - раскраска Зайч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abook.org/carambis/16.jpg -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248000" y="5661000"/>
            <a:ext cx="900360" cy="792360"/>
          </a:xfrm>
          <a:custGeom>
            <a:avLst/>
            <a:gdLst>
              <a:gd name="textAreaLeft" fmla="*/ 51120 w 900360"/>
              <a:gd name="textAreaRight" fmla="*/ 849240 w 900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4543" h="21600">
                <a:moveTo>
                  <a:pt x="0" y="0"/>
                </a:moveTo>
                <a:lnTo>
                  <a:pt x="24543" y="0"/>
                </a:lnTo>
                <a:lnTo>
                  <a:pt x="24543" y="21600"/>
                </a:lnTo>
                <a:lnTo>
                  <a:pt x="0" y="21600"/>
                </a:lnTo>
                <a:close/>
              </a:path>
              <a:path fill="lightenLess" w="24543" h="21600">
                <a:moveTo>
                  <a:pt x="0" y="0"/>
                </a:moveTo>
                <a:lnTo>
                  <a:pt x="24543" y="0"/>
                </a:lnTo>
                <a:lnTo>
                  <a:pt x="23143" y="1400"/>
                </a:lnTo>
                <a:lnTo>
                  <a:pt x="1400" y="1400"/>
                </a:lnTo>
                <a:close/>
              </a:path>
              <a:path fill="darken" w="24543" h="21600">
                <a:moveTo>
                  <a:pt x="24543" y="0"/>
                </a:moveTo>
                <a:lnTo>
                  <a:pt x="24543" y="21600"/>
                </a:lnTo>
                <a:lnTo>
                  <a:pt x="23143" y="20200"/>
                </a:lnTo>
                <a:lnTo>
                  <a:pt x="23143" y="1400"/>
                </a:lnTo>
                <a:close/>
              </a:path>
              <a:path fill="darkenLess" w="24543" h="21600">
                <a:moveTo>
                  <a:pt x="2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3" y="20200"/>
                </a:lnTo>
                <a:close/>
              </a:path>
              <a:path fill="lighten" w="2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3" h="21600">
                <a:moveTo>
                  <a:pt x="5265" y="7493"/>
                </a:moveTo>
                <a:lnTo>
                  <a:pt x="8773" y="7493"/>
                </a:lnTo>
                <a:lnTo>
                  <a:pt x="8773" y="12828"/>
                </a:lnTo>
                <a:cubicBezTo>
                  <a:pt x="8773" y="13751"/>
                  <a:pt x="9573" y="14482"/>
                  <a:pt x="10609" y="14482"/>
                </a:cubicBezTo>
                <a:lnTo>
                  <a:pt x="12271" y="14482"/>
                </a:lnTo>
                <a:cubicBezTo>
                  <a:pt x="13307" y="14482"/>
                  <a:pt x="14108" y="13751"/>
                  <a:pt x="14108" y="12828"/>
                </a:cubicBezTo>
                <a:lnTo>
                  <a:pt x="14108" y="7493"/>
                </a:lnTo>
                <a:lnTo>
                  <a:pt x="12271" y="7493"/>
                </a:lnTo>
                <a:lnTo>
                  <a:pt x="15779" y="3985"/>
                </a:lnTo>
                <a:lnTo>
                  <a:pt x="19452" y="7493"/>
                </a:lnTo>
                <a:lnTo>
                  <a:pt x="17615" y="7493"/>
                </a:lnTo>
                <a:lnTo>
                  <a:pt x="17615" y="12828"/>
                </a:lnTo>
                <a:cubicBezTo>
                  <a:pt x="17615" y="15596"/>
                  <a:pt x="15039" y="18155"/>
                  <a:pt x="12271" y="18155"/>
                </a:cubicBezTo>
                <a:lnTo>
                  <a:pt x="10609" y="18155"/>
                </a:lnTo>
                <a:cubicBezTo>
                  <a:pt x="7841" y="18155"/>
                  <a:pt x="5265" y="15596"/>
                  <a:pt x="5265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900000" y="549360"/>
            <a:ext cx="7524720" cy="39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– это инструмент дл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лужит для получения, хра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и и передач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устройства компьютера дел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стройства ввода, вы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>
            <a:hlinkClick r:id="" action="ppaction://hlinkshowjump?jump=nextslide"/>
          </p:cNvPr>
          <p:cNvSpPr/>
          <p:nvPr/>
        </p:nvSpPr>
        <p:spPr>
          <a:xfrm>
            <a:off x="3203640" y="4905360"/>
            <a:ext cx="3311640" cy="433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900000" y="549360"/>
            <a:ext cx="7524720" cy="359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йте на вопро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йте вер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адание выполнено невер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звучат колокольчики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аплодисмент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ашивается картинк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следующ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" action="ppaction://hlinkshowjump?jump=nextslide"/>
          </p:cNvPr>
          <p:cNvSpPr/>
          <p:nvPr/>
        </p:nvSpPr>
        <p:spPr>
          <a:xfrm>
            <a:off x="2376360" y="4653000"/>
            <a:ext cx="4789440" cy="140508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Ст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3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7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8"/>
          <p:cNvSpPr txBox="1"/>
          <p:nvPr/>
        </p:nvSpPr>
        <p:spPr>
          <a:xfrm>
            <a:off x="2771640" y="1233360"/>
            <a:ext cx="3667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виатур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21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3" descr="0"/>
          <p:cNvPicPr/>
          <p:nvPr/>
        </p:nvPicPr>
        <p:blipFill>
          <a:blip r:embed="rId4"/>
          <a:srcRect l="0" t="0" r="2277" b="0"/>
          <a:stretch/>
        </p:blipFill>
        <p:spPr>
          <a:xfrm>
            <a:off x="719280" y="1989000"/>
            <a:ext cx="381636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AutoShape 5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3492360" y="1197000"/>
            <a:ext cx="229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D-диск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9" descr="1"/>
          <p:cNvPicPr/>
          <p:nvPr/>
        </p:nvPicPr>
        <p:blipFill>
          <a:blip r:embed="rId4"/>
          <a:srcRect l="0" t="0" r="1346" b="0"/>
          <a:stretch/>
        </p:blipFill>
        <p:spPr>
          <a:xfrm>
            <a:off x="684360" y="1989000"/>
            <a:ext cx="3852720" cy="360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3492360" y="1233360"/>
            <a:ext cx="2524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т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9" descr="2"/>
          <p:cNvPicPr/>
          <p:nvPr/>
        </p:nvPicPr>
        <p:blipFill>
          <a:blip r:embed="rId4"/>
          <a:srcRect l="0" t="0" r="452" b="0"/>
          <a:stretch/>
        </p:blipFill>
        <p:spPr>
          <a:xfrm>
            <a:off x="611280" y="1989000"/>
            <a:ext cx="3887640" cy="361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3311640" y="1089000"/>
            <a:ext cx="27050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крофон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8" descr="3"/>
          <p:cNvPicPr/>
          <p:nvPr/>
        </p:nvPicPr>
        <p:blipFill>
          <a:blip r:embed="rId4"/>
          <a:stretch/>
        </p:blipFill>
        <p:spPr>
          <a:xfrm>
            <a:off x="611280" y="1952640"/>
            <a:ext cx="390528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3311640" y="1233360"/>
            <a:ext cx="270504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нито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8" descr="4"/>
          <p:cNvPicPr/>
          <p:nvPr/>
        </p:nvPicPr>
        <p:blipFill>
          <a:blip r:embed="rId4"/>
          <a:stretch/>
        </p:blipFill>
        <p:spPr>
          <a:xfrm>
            <a:off x="647640" y="1989000"/>
            <a:ext cx="3924360" cy="3610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311640" y="1233360"/>
            <a:ext cx="30240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нчест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5"/>
          <p:cNvPicPr/>
          <p:nvPr/>
        </p:nvPicPr>
        <p:blipFill>
          <a:blip r:embed="rId4"/>
          <a:stretch/>
        </p:blipFill>
        <p:spPr>
          <a:xfrm>
            <a:off x="647640" y="1989000"/>
            <a:ext cx="387684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04:16:04Z</dcterms:created>
  <dc:creator>Админ</dc:creator>
  <dc:description/>
  <dc:language>en-US</dc:language>
  <cp:lastModifiedBy>XP GAME 2009</cp:lastModifiedBy>
  <dcterms:modified xsi:type="dcterms:W3CDTF">2015-12-29T18:23:37Z</dcterms:modified>
  <cp:revision>20</cp:revision>
  <dc:subject/>
  <dc:title>Слайд 1</dc:title>
</cp:coreProperties>
</file>